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24.gif" ContentType="image/gif"/>
  <Override PartName="/ppt/media/image11.jpeg" ContentType="image/jpeg"/>
  <Override PartName="/ppt/media/image13.wmf" ContentType="image/x-wmf"/>
  <Override PartName="/ppt/media/image5.png" ContentType="image/png"/>
  <Override PartName="/ppt/media/image10.gif" ContentType="image/gif"/>
  <Override PartName="/ppt/media/image8.wmf" ContentType="image/x-wmf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6.gif" ContentType="image/gif"/>
  <Override PartName="/ppt/media/image3.png" ContentType="image/png"/>
  <Override PartName="/ppt/media/image23.gif" ContentType="image/gif"/>
  <Override PartName="/ppt/media/image28.wmf" ContentType="image/x-wmf"/>
  <Override PartName="/ppt/media/image16.wmf" ContentType="image/x-wmf"/>
  <Override PartName="/ppt/media/image27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20.wmf" ContentType="image/x-wmf"/>
  <Override PartName="/ppt/media/image18.gif" ContentType="image/gif"/>
  <Override PartName="/ppt/media/image17.gif" ContentType="image/gif"/>
  <Override PartName="/ppt/media/image15.gif" ContentType="image/gif"/>
  <Override PartName="/ppt/media/image14.gif" ContentType="image/gif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89E-3731-418C-986C-EAAEAA99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585-EC2E-4F03-95C9-5A68B17F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427-7806-4015-B57D-A4EF9D75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3A6-9451-4A6A-ACBE-E7E8210C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D989-AE34-4D7A-A3E0-D7007632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0EF3-8BDC-4184-A078-2071E374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2427-41A7-4CFB-B725-51DA7A35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6927-3223-43CF-A161-B087DA61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6910-AF5D-4316-A9F3-E361E94A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3B2F-2055-48BE-A641-93EE3C7C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4BD-10CB-4674-8C83-DA5560A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639-6E09-4AC3-8A95-B6CDBA2D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8218-1EBE-4FF8-B4B0-FFD743AB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D957-1D7E-4400-8EB0-07FD6AA4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016-1787-4A0A-97E8-5526504F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838E-F983-45FF-A7AF-5E021DAD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DB3B-B513-4FB8-A404-6AEA9BAB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4F7-DD95-41FC-BD50-0A243FED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EFD-69DB-4F5C-82F5-8A9E2DD2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1FB-2FCD-4F11-B8C1-B415A43C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8A9-2B3C-460D-BDDB-F7C26AC9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A6C-AC0C-4A29-A591-7A600579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F86-7671-487B-BEDD-2FE8A73F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D67-3736-4116-B5A4-3B470CA4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AEEE-0EAC-4F73-8119-D1E9B2ACCE39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3691-7FC7-479B-B34C-429E12112B5C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69B8-BF0A-40D5-934E-EBF829590C02}" type="datetime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412F-9D13-487F-9222-EA1BE828EE96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" Target="slide2.xm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" Target="slide2.xml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png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image" Target="../media/image27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8.xml"/><Relationship Id="rId7" Type="http://schemas.openxmlformats.org/officeDocument/2006/relationships/image" Target="../media/image2.png"/><Relationship Id="rId8" Type="http://schemas.openxmlformats.org/officeDocument/2006/relationships/slide" Target="slide10.xml"/><Relationship Id="rId9" Type="http://schemas.openxmlformats.org/officeDocument/2006/relationships/image" Target="../media/image2.png"/><Relationship Id="rId10" Type="http://schemas.openxmlformats.org/officeDocument/2006/relationships/slide" Target="slide11.xml"/><Relationship Id="rId11" Type="http://schemas.openxmlformats.org/officeDocument/2006/relationships/image" Target="../media/image2.png"/><Relationship Id="rId12" Type="http://schemas.openxmlformats.org/officeDocument/2006/relationships/slide" Target="slide12.xml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" Target="slide3.xml"/><Relationship Id="rId5" Type="http://schemas.openxmlformats.org/officeDocument/2006/relationships/image" Target="../media/image13.wm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2.xml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6668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3434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3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BS00580_" descr=""/>
          <p:cNvPicPr/>
          <p:nvPr/>
        </p:nvPicPr>
        <p:blipFill>
          <a:blip r:embed="rId6"/>
          <a:stretch/>
        </p:blipFill>
        <p:spPr>
          <a:xfrm>
            <a:off x="533520" y="1081080"/>
            <a:ext cx="7619760" cy="5776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1880" y="6019920"/>
            <a:ext cx="53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595ff"/>
                </a:solidFill>
                <a:uFillTx/>
                <a:latin typeface="Comic Sans MS"/>
                <a:hlinkClick r:id="rId7" action="ppaction://hlinksldjump"/>
              </a:rPr>
              <a:t>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0"/>
            <a:ext cx="8382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Информатизация общества</a:t>
            </a:r>
            <a:endParaRPr b="0" lang="en-US" sz="2400" spc="1" strike="noStrike">
              <a:ln w="0">
                <a:noFill/>
              </a:ln>
              <a:solidFill>
                <a:srgbClr val="9999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82D8-DF33-4B6F-8D52-C9E285B574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589A74-ADAB-4E58-B93C-84B8CB39A0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Информационные техн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Информационные технологии - процесс, использующий совокупность средств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и методов обработки и передачи первичной информации для получения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информации нового качества о состоянии объекта, процесса или явления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Инструментарий информационной технологии - совокупность программных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продуктов, использование которых позволяет достичь поставленную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пользователем цель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 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Для того, чтобы уметь управлять сложной компьютерной техникой, не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допуская ее сбоев и проникновения компьютерных вирусов, приобрест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необходимые навыки для дальнейшей работы и учебы, позволить учащимся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ориентироваться в огромном море программ и повысить эффективность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применения компьютеров в учебном процессе, необходимо перестроить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традиционные методики преподавания информатики, усилив в них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прикладную направленность. Это позволит избежать отставания обучения от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реальной практики, позволит повысить культуру учащихся как пользователей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IBM PC, и даст преимущества учащимся при выборе ими профессии, в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работе и учебе и в достижении ими личного успеха.</a:t>
            </a:r>
            <a:r>
              <a:rPr b="1" lang="en-US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4" name="2M6" descr=""/>
          <p:cNvPicPr/>
          <p:nvPr/>
        </p:nvPicPr>
        <p:blipFill>
          <a:blip r:embed="rId3"/>
          <a:stretch/>
        </p:blipFill>
        <p:spPr>
          <a:xfrm>
            <a:off x="2438280" y="762120"/>
            <a:ext cx="42674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F3B-219F-4702-A4F0-57722334FB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2451F-9DDD-43C5-B67F-43C8FA2936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MP00640_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1828800" cy="1820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90720"/>
            <a:ext cx="94489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Примеры носителей информ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– 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электромагнитные сигналы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несут данные о звуке, музыке, видеоизображении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текстовые данные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Зарегистрированные в книге или тетради, образуют узор, который можно прочесть 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получить необходимую информацию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графическая информация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Можно регистрировать на бумаге в виде участков разной яркости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фото- и кинопленка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               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Изображение в виде участков разного цвета и разной прозрачност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3" action="ppaction://hlinksldjump"/>
              </a:rPr>
              <a:t>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8" name="disk" descr=""/>
          <p:cNvPicPr/>
          <p:nvPr/>
        </p:nvPicPr>
        <p:blipFill>
          <a:blip r:embed="rId4"/>
          <a:stretch/>
        </p:blipFill>
        <p:spPr>
          <a:xfrm>
            <a:off x="304920" y="380880"/>
            <a:ext cx="1708200" cy="1368720"/>
          </a:xfrm>
          <a:prstGeom prst="rect">
            <a:avLst/>
          </a:prstGeom>
          <a:ln w="0">
            <a:noFill/>
          </a:ln>
        </p:spPr>
      </p:pic>
      <p:pic>
        <p:nvPicPr>
          <p:cNvPr id="179" name="NA01062_" descr=""/>
          <p:cNvPicPr/>
          <p:nvPr/>
        </p:nvPicPr>
        <p:blipFill>
          <a:blip r:embed="rId5"/>
          <a:stretch/>
        </p:blipFill>
        <p:spPr>
          <a:xfrm>
            <a:off x="838080" y="2895480"/>
            <a:ext cx="1165320" cy="1038240"/>
          </a:xfrm>
          <a:prstGeom prst="rect">
            <a:avLst/>
          </a:prstGeom>
          <a:ln w="0">
            <a:noFill/>
          </a:ln>
        </p:spPr>
      </p:pic>
      <p:pic>
        <p:nvPicPr>
          <p:cNvPr id="180" name="16t5" descr=""/>
          <p:cNvPicPr/>
          <p:nvPr/>
        </p:nvPicPr>
        <p:blipFill>
          <a:blip r:embed="rId6"/>
          <a:stretch/>
        </p:blipFill>
        <p:spPr>
          <a:xfrm>
            <a:off x="7620120" y="5105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1B311" descr=""/>
          <p:cNvPicPr/>
          <p:nvPr/>
        </p:nvPicPr>
        <p:blipFill>
          <a:blip r:embed="rId7"/>
          <a:stretch/>
        </p:blipFill>
        <p:spPr>
          <a:xfrm>
            <a:off x="7391520" y="380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82" name="ARHIMED" descr=""/>
          <p:cNvPicPr/>
          <p:nvPr/>
        </p:nvPicPr>
        <p:blipFill>
          <a:blip r:embed="rId8"/>
          <a:stretch/>
        </p:blipFill>
        <p:spPr>
          <a:xfrm>
            <a:off x="3429000" y="518148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183" name="j0076168" descr=""/>
          <p:cNvPicPr/>
          <p:nvPr/>
        </p:nvPicPr>
        <p:blipFill>
          <a:blip r:embed="rId9"/>
          <a:stretch/>
        </p:blipFill>
        <p:spPr>
          <a:xfrm>
            <a:off x="6781680" y="2895480"/>
            <a:ext cx="2606760" cy="11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38B-8023-41D9-BC2D-5F3250769B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22BE6-BF66-4B39-B5F8-2C36AB6878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Основной задачей информатики является систематизация приемов и методов работы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с аппаратными и программными средствами.Цель систематизации – выделение и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внедрение передовых, наиболее эффективных технологий, а также методическое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обеспечение новых технологических исследований. В составе основной задачи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можно выделить следующие направления исследований</a:t>
            </a:r>
            <a:r>
              <a:rPr b="0" lang="en-US" sz="1600" spc="-1" strike="noStrike">
                <a:solidFill>
                  <a:srgbClr val="545472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приемы и методы построения вычислительных систем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приемы управления и аппаратным и программным обеспечением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приемы, методы и средства разработки программ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повышение технических характеристик средств хранения, обработки и передачи данных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разработка методов и средств защиты данных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автоматизация функционирования компьютерных систем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На всех этапах изучения информатики ключевым понятием является эффективность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При изучении аппаратных средств под эффективностью понимают отношение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Производительности оборудования к его стоимости. При изучении програм</a:t>
            </a:r>
            <a:r>
              <a:rPr b="0" lang="en-US" sz="1600" spc="-1" strike="noStrike">
                <a:solidFill>
                  <a:srgbClr val="545472"/>
                </a:solidFill>
                <a:latin typeface="Comic Sans MS"/>
              </a:rPr>
              <a:t>-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мирования под эффективностью понимают объем программного кода, создаваемого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программистом в единицу времени. В наше время почти каждый может позволить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себе приобрести компьютер и для совершенствования образования, и для работы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С</a:t>
            </a:r>
            <a:r>
              <a:rPr b="1" lang="ru-RU" sz="14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6" name="SY01265_" descr=""/>
          <p:cNvPicPr/>
          <p:nvPr/>
        </p:nvPicPr>
        <p:blipFill>
          <a:blip r:embed="rId3"/>
          <a:stretch/>
        </p:blipFill>
        <p:spPr>
          <a:xfrm>
            <a:off x="304920" y="2286000"/>
            <a:ext cx="326880" cy="380880"/>
          </a:xfrm>
          <a:prstGeom prst="rect">
            <a:avLst/>
          </a:prstGeom>
          <a:ln w="0">
            <a:noFill/>
          </a:ln>
        </p:spPr>
      </p:pic>
      <p:pic>
        <p:nvPicPr>
          <p:cNvPr id="187" name="SY01265_" descr=""/>
          <p:cNvPicPr/>
          <p:nvPr/>
        </p:nvPicPr>
        <p:blipFill>
          <a:blip r:embed="rId4"/>
          <a:stretch/>
        </p:blipFill>
        <p:spPr>
          <a:xfrm>
            <a:off x="304920" y="2743200"/>
            <a:ext cx="326880" cy="380880"/>
          </a:xfrm>
          <a:prstGeom prst="rect">
            <a:avLst/>
          </a:prstGeom>
          <a:ln w="0">
            <a:noFill/>
          </a:ln>
        </p:spPr>
      </p:pic>
      <p:pic>
        <p:nvPicPr>
          <p:cNvPr id="188" name="SY01265_" descr=""/>
          <p:cNvPicPr/>
          <p:nvPr/>
        </p:nvPicPr>
        <p:blipFill>
          <a:blip r:embed="rId5"/>
          <a:stretch/>
        </p:blipFill>
        <p:spPr>
          <a:xfrm>
            <a:off x="304920" y="3200400"/>
            <a:ext cx="326880" cy="380880"/>
          </a:xfrm>
          <a:prstGeom prst="rect">
            <a:avLst/>
          </a:prstGeom>
          <a:ln w="0">
            <a:noFill/>
          </a:ln>
        </p:spPr>
      </p:pic>
      <p:pic>
        <p:nvPicPr>
          <p:cNvPr id="189" name="SY01265_" descr=""/>
          <p:cNvPicPr/>
          <p:nvPr/>
        </p:nvPicPr>
        <p:blipFill>
          <a:blip r:embed="rId6"/>
          <a:stretch/>
        </p:blipFill>
        <p:spPr>
          <a:xfrm>
            <a:off x="304920" y="3733920"/>
            <a:ext cx="326880" cy="380880"/>
          </a:xfrm>
          <a:prstGeom prst="rect">
            <a:avLst/>
          </a:prstGeom>
          <a:ln w="0">
            <a:noFill/>
          </a:ln>
        </p:spPr>
      </p:pic>
      <p:pic>
        <p:nvPicPr>
          <p:cNvPr id="190" name="SY01265_" descr=""/>
          <p:cNvPicPr/>
          <p:nvPr/>
        </p:nvPicPr>
        <p:blipFill>
          <a:blip r:embed="rId7"/>
          <a:stretch/>
        </p:blipFill>
        <p:spPr>
          <a:xfrm>
            <a:off x="304920" y="4267080"/>
            <a:ext cx="326880" cy="381240"/>
          </a:xfrm>
          <a:prstGeom prst="rect">
            <a:avLst/>
          </a:prstGeom>
          <a:ln w="0">
            <a:noFill/>
          </a:ln>
        </p:spPr>
      </p:pic>
      <p:pic>
        <p:nvPicPr>
          <p:cNvPr id="191" name="SY01265_" descr=""/>
          <p:cNvPicPr/>
          <p:nvPr/>
        </p:nvPicPr>
        <p:blipFill>
          <a:blip r:embed="rId8"/>
          <a:stretch/>
        </p:blipFill>
        <p:spPr>
          <a:xfrm>
            <a:off x="304920" y="47242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E22-72DE-4014-B137-CBA383DC65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B3900-D09A-4E37-9811-042D05C4B3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Об автора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Автор проекта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Ученица 9 «Э» класса гимназии № 1576 Фролова Татьяна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Руководитель проекта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учитель информатики Львовский Марк Бениаминович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737-8A85-4A06-8A6E-5E6182BDDE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92E8B-90C0-4BC4-9B0D-98EF24A8AC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Список использованной литерату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Средства Интернета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http://marknet.narod.ru/pc/ -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устройство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 IBM PC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http://marklv.narod.ru/book/  - 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методическое пособие по информатике (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Book I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http://markbook.chat.ru/ - 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методическое пособие по информатике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 (Book II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-528120" algn="ctr">
              <a:lnSpc>
                <a:spcPct val="90000"/>
              </a:lnSpc>
              <a:buClr>
                <a:srgbClr val="ffffff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«Справочник школьника 5-11 классы»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«Большая энциклопедия Кирилла и Мефодия»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 2001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    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                                        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город Москва - 2002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28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6" name="BS00554_" descr=""/>
          <p:cNvPicPr/>
          <p:nvPr/>
        </p:nvPicPr>
        <p:blipFill>
          <a:blip r:embed="rId3"/>
          <a:stretch/>
        </p:blipFill>
        <p:spPr>
          <a:xfrm>
            <a:off x="2819520" y="4343400"/>
            <a:ext cx="1828800" cy="15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929-DEDF-4237-948B-7BC477B425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FA2A4-A1C3-45C5-B504-D089102AF9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28600" y="0"/>
            <a:ext cx="85345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пасибо за внимание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315200" y="6095880"/>
            <a:ext cx="38088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EC1-27E9-4CA4-91F1-9EF2A8AE84E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E0517-4064-4169-B6F8-E48877C36E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ff"/>
                </a:solidFill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595ff"/>
                </a:solidFill>
                <a:uFillTx/>
                <a:latin typeface="Comic Sans MS"/>
                <a:hlinkClick r:id="rId3" action="ppaction://hlinksldjump"/>
              </a:rPr>
              <a:t>Человек и компьюте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Comic Sans MS"/>
              </a:rPr>
              <a:t>Средства массовой информаци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595ff"/>
                </a:solidFill>
                <a:uFillTx/>
                <a:latin typeface="Comic Sans MS"/>
                <a:hlinkClick r:id="rId6" action="ppaction://hlinksldjump"/>
              </a:rPr>
              <a:t>Свойства информаци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595ff"/>
                </a:solidFill>
                <a:uFillTx/>
                <a:latin typeface="Comic Sans MS"/>
                <a:hlinkClick r:id="rId8" action="ppaction://hlinksldjump"/>
              </a:rPr>
              <a:t>Информационные технологи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595ff"/>
                </a:solidFill>
                <a:uFillTx/>
                <a:latin typeface="Comic Sans MS"/>
                <a:hlinkClick r:id="rId10" action="ppaction://hlinksldjump"/>
              </a:rPr>
              <a:t>Примеры носителей информаци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595ff"/>
                </a:solidFill>
                <a:uFillTx/>
                <a:latin typeface="Comic Sans MS"/>
                <a:hlinkClick r:id="rId12" action="ppaction://hlinksldjump"/>
              </a:rPr>
              <a:t>Заключение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Comic Sans MS"/>
              </a:rPr>
              <a:t>Об автора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Comic Sans MS"/>
              </a:rPr>
              <a:t>Список использованной литератур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Comic Sans MS"/>
              </a:rPr>
              <a:t>Окончание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5" name="display" descr=""/>
          <p:cNvPicPr/>
          <p:nvPr/>
        </p:nvPicPr>
        <p:blipFill>
          <a:blip r:embed="rId16"/>
          <a:stretch/>
        </p:blipFill>
        <p:spPr>
          <a:xfrm>
            <a:off x="7067520" y="457200"/>
            <a:ext cx="2076480" cy="27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02E-9767-4601-8E40-F0867ABA10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FB927-2C1B-4BC8-B5B8-DB7EE648E1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Человек и компьюте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КОМПЬЮТЕР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 (англ. computer, от лат. computo — считаю), машина для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приема,переработки, хранения и выдачи информации в электронном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виде, которая может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воспринимать и выполнять сложные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последовательности вычислительных операций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по заданной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инструкции — программе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ЧЕЛОВЕК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, общественное существо, обладающее сознанием, разумом,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Субъект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общественно-  исторической деятельности и культуры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За последние годы произошел резкий скачок в развитии компьютерной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техники и программного обеспечения персональных компьютеров, а также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наблюдается значительное расширение сферы применения IBM PC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Компьютеры применяются практически во всех видах человеческой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деятельности (промышленность, наука, медицина, образование, транспорт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банковское дело, связь, военная техника, бытовая техника и т.д.). Появились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новые IBM PC, обладающие высокими техническими характеристиками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(быстродействующие 32-разрядные процессоры Pentium Pro, Pentium-2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Pentium-3, винчестеры 4 - 20 Гб, ОЗУ 64-128 Mб, КЭШ-память 256-512 Kб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мониторы SVGA с видеокартой 4-32Mb, лазерные принтеры, средства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лазерные диски CD-ROM и др.).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                      </a:t>
            </a:r>
            <a:r>
              <a:rPr b="0" lang="ru-RU" sz="24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(картинка)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3" action="ppaction://hlinksldjump"/>
              </a:rPr>
              <a:t>С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4" action="ppaction://hlinksldjump"/>
              </a:rPr>
              <a:t>П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8" name="1C5" descr=""/>
          <p:cNvPicPr/>
          <p:nvPr/>
        </p:nvPicPr>
        <p:blipFill>
          <a:blip r:embed="rId5"/>
          <a:stretch/>
        </p:blipFill>
        <p:spPr>
          <a:xfrm>
            <a:off x="7696080" y="9907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800-580F-4646-B3AC-5A9B2EEFC1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6F418-D274-474F-BCE6-289921ABA3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Человек и компьюте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0" name="ibm_pc3" descr=""/>
          <p:cNvPicPr/>
          <p:nvPr/>
        </p:nvPicPr>
        <p:blipFill>
          <a:blip r:embed="rId2"/>
          <a:stretch/>
        </p:blipFill>
        <p:spPr>
          <a:xfrm>
            <a:off x="0" y="838080"/>
            <a:ext cx="4419720" cy="2214720"/>
          </a:xfrm>
          <a:prstGeom prst="rect">
            <a:avLst/>
          </a:prstGeom>
          <a:ln w="0">
            <a:noFill/>
          </a:ln>
        </p:spPr>
      </p:pic>
      <p:pic>
        <p:nvPicPr>
          <p:cNvPr id="151" name="PE01561_" descr=""/>
          <p:cNvPicPr/>
          <p:nvPr/>
        </p:nvPicPr>
        <p:blipFill>
          <a:blip r:embed="rId3"/>
          <a:stretch/>
        </p:blipFill>
        <p:spPr>
          <a:xfrm>
            <a:off x="2590920" y="3317760"/>
            <a:ext cx="5333760" cy="3540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33526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Comic Sans MS"/>
              </a:rPr>
              <a:t>Стандартный компьютер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51814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Comic Sans MS"/>
              </a:rPr>
              <a:t>Человек и компьютер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595ff"/>
                </a:solidFill>
                <a:uFillTx/>
                <a:latin typeface="Comic Sans MS"/>
                <a:hlinkClick r:id="rId4" action="ppaction://hlinksldjump"/>
              </a:rPr>
              <a:t>Н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bd09297_" descr=""/>
          <p:cNvPicPr/>
          <p:nvPr/>
        </p:nvPicPr>
        <p:blipFill>
          <a:blip r:embed="rId5"/>
          <a:stretch/>
        </p:blipFill>
        <p:spPr>
          <a:xfrm>
            <a:off x="4572000" y="838080"/>
            <a:ext cx="2347920" cy="1465560"/>
          </a:xfrm>
          <a:prstGeom prst="rect">
            <a:avLst/>
          </a:prstGeom>
          <a:ln w="0">
            <a:noFill/>
          </a:ln>
        </p:spPr>
      </p:pic>
      <p:pic>
        <p:nvPicPr>
          <p:cNvPr id="156" name="ag00154_" descr=""/>
          <p:cNvPicPr/>
          <p:nvPr/>
        </p:nvPicPr>
        <p:blipFill>
          <a:blip r:embed="rId6"/>
          <a:stretch/>
        </p:blipFill>
        <p:spPr>
          <a:xfrm>
            <a:off x="6781680" y="1521000"/>
            <a:ext cx="1752840" cy="154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469-C93C-4E9A-9D3C-E607AC57845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64A9D-5A1C-4A72-9CE8-F067EDD05C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Человек и компьюте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   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Развивается и широко используется мировая компьютерная сеть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Интернет. Также появилось и соответствующее этим компьютерам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программное обеспечение и современные компьютерные технологи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фирмы MicroSoft Windows-98/2000, Office-97/2000 (Word, Excel,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Acces, Power Point), Internet Explorer, программы фирмы Semantec –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Norton Commander, Norton Utilities для Windows, DOS Navigator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современные текстовые и графические редакторы (PhotoShop, Corel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Draw), системы программирования Turbo Pascal и Borland C++, QBasic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Visual Basic, системы управления базами данных, современные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антивируссные, прикладные и учебные программы. 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Все эти программы созданы для того, чтобы обучить человека разным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технологиям и облегчить ему работу. Существует тесный союз человека 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компьютера. Сейчас почти в каждом офисе и в каждом доме нельзя без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компьютера. Ученики и студенты предпочитают делать доклады и сообщения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на компьютере, чем писать от руки. 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В наше время человека нельзя представить без компьютера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Н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3" action="ppaction://hlinksldjump"/>
              </a:rPr>
              <a:t>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9" name="3C6" descr=""/>
          <p:cNvPicPr/>
          <p:nvPr/>
        </p:nvPicPr>
        <p:blipFill>
          <a:blip r:embed="rId4"/>
          <a:stretch/>
        </p:blipFill>
        <p:spPr>
          <a:xfrm>
            <a:off x="7051680" y="-457200"/>
            <a:ext cx="209232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908-3AA6-402C-B1AA-24622116AC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F8696-A7BD-4272-AA7B-A47090049E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Средства массовой информ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Средство массовой информации - средство распространения информации,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характеризующееся: (1) обращенностью к массовой аудитории, (2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общедоступностью, (3) корпоративным характером производства 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распространения информации. К средствам массовой информации относятся: 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- пресса, радио, телевидение; 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- кинематограф, звукозаписи и видеозаписи; 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- видеотекст, телетекст, рекламные щиты и панели; </a:t>
            </a:r>
            <a:br>
              <a:rPr sz="1800"/>
            </a:b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- домашние видеоцентры, сочетающие телевизионные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телефонные, компьютерные и другие линии связи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С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2" name="BS01316_" descr=""/>
          <p:cNvPicPr/>
          <p:nvPr/>
        </p:nvPicPr>
        <p:blipFill>
          <a:blip r:embed="rId3"/>
          <a:stretch/>
        </p:blipFill>
        <p:spPr>
          <a:xfrm>
            <a:off x="7086600" y="2743200"/>
            <a:ext cx="1682640" cy="3048120"/>
          </a:xfrm>
          <a:prstGeom prst="rect">
            <a:avLst/>
          </a:prstGeom>
          <a:ln w="0">
            <a:noFill/>
          </a:ln>
        </p:spPr>
      </p:pic>
      <p:pic>
        <p:nvPicPr>
          <p:cNvPr id="163" name="Loudspkr" descr=""/>
          <p:cNvPicPr/>
          <p:nvPr/>
        </p:nvPicPr>
        <p:blipFill>
          <a:blip r:embed="rId4"/>
          <a:stretch/>
        </p:blipFill>
        <p:spPr>
          <a:xfrm>
            <a:off x="609480" y="449568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932-77AD-4D47-9440-CABD32CBCE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0D3B2-E890-47BE-B9E9-3B3E967C6E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ff"/>
                </a:solidFill>
                <a:latin typeface="Comic Sans MS"/>
              </a:rPr>
              <a:t>Массовая информац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Массовая информация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Статья 1. Свобода массовой информации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В Российской Федерации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поиск, получение, производство и распространение массовой информации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учреждение средств массовой информации, владение, пользование и распоряжение ими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изготовление, приобретение, хранение и эксплуатация технических устройств и оборудования, сырья и материалов, предназначенных для производства и распространения продукции средств массовой информации,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не подлежат ограничениям, за исключением предусмотренных законодательством Российской Федерации о средствах массовой информации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E5F-04D5-4669-9088-15DB8765E8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2B726-6AB6-4A3E-AF82-113EB12B0C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822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ff"/>
                </a:solidFill>
                <a:latin typeface="Comic Sans MS"/>
              </a:rPr>
              <a:t>Свойства информаци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ИНФОРМАЦИЯ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— сведения, передаваемые людьми устным, письменным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или другим способом (с помощью условных сигналов, технических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средств и т. д.). С сер. 20 в. общенаучное понятие, включающее обмен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сведениями между людьми, человеком и автоматом, автоматом и автоматом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Обмен сигналами в животном и растительном мире,передачу признаков от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клетки к клетке, от организма к организму</a:t>
            </a:r>
            <a:r>
              <a:rPr b="1" lang="ru-RU" sz="1800" spc="-1" strike="noStrike">
                <a:solidFill>
                  <a:srgbClr val="545472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Объективность и субъективность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Объективная информация отражает явления или объекты материального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мира. Субъективная информация – та, которую создают люди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Объективная информация может преобразовываться в субъективную, если в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ее обработке или преобразовании участвуют люди. Так, например, наблюдая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кратеры на поверхности спутников Юпитера, разные люди могут приходить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к разным выводам.Одни могут подумать, что это следы от метеоритов,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другие – считать, что это результат вулканической деятельности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Полнота информации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Это достаточность данных для принятия решений или создание новых данных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на основе имеющихся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1" lang="ru-RU" sz="1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1" lang="ru-RU" sz="1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1" lang="ru-RU" sz="1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1" lang="ru-RU" sz="1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                              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С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3" action="ppaction://hlinksldjump"/>
              </a:rPr>
              <a:t>П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8" name="4C1" descr=""/>
          <p:cNvPicPr/>
          <p:nvPr/>
        </p:nvPicPr>
        <p:blipFill>
          <a:blip r:embed="rId4"/>
          <a:stretch/>
        </p:blipFill>
        <p:spPr>
          <a:xfrm>
            <a:off x="609480" y="0"/>
            <a:ext cx="10242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B62-4100-4D3C-A246-A9C54CAF8A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EC36C-EB62-4BC5-B7DF-F7E6CC9053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ff"/>
                </a:solidFill>
                <a:latin typeface="Comic Sans MS"/>
              </a:rPr>
              <a:t>Свойства информаци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Достоверность информации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Поскольку данные возникают в момент регистрации сигналов, встает вопрос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Об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отделении «полезного»  сигнала от посторонних, называемых «шумами»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полезный сигнал зарегистрирован более четко, достоверность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иформации может быть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высокой. При увеличении уровня шумов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достоверность информации снижается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Адекватность информации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Это степень соответствия реальному объективному состоянию дела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Неадекватная информация </a:t>
            </a: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может образовываться при создании новой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информации на основе неполных или недостоверных данных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Актуальность информации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В тех случаях, когда информацию используют для принятия решения, важна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ее актуальность, т.е. Соответствие текущему моменту времени. Достоверная 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адекватная, но устаревшая информация может приводить к ошибочным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Comic Sans MS"/>
              </a:rPr>
              <a:t>решениям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2" action="ppaction://hlinksldjump"/>
              </a:rPr>
              <a:t>Н</a:t>
            </a:r>
            <a:r>
              <a:rPr b="0" lang="ru-RU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ru-RU" sz="2000" spc="-1" strike="noStrike" u="sng">
                <a:solidFill>
                  <a:srgbClr val="9595ff"/>
                </a:solidFill>
                <a:uFillTx/>
                <a:latin typeface="Comic Sans MS"/>
                <a:hlinkClick r:id="rId3" action="ppaction://hlinksldjump"/>
              </a:rPr>
              <a:t>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1" name="4C1" descr=""/>
          <p:cNvPicPr/>
          <p:nvPr/>
        </p:nvPicPr>
        <p:blipFill>
          <a:blip r:embed="rId4"/>
          <a:stretch/>
        </p:blipFill>
        <p:spPr>
          <a:xfrm>
            <a:off x="609480" y="0"/>
            <a:ext cx="10242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286-832D-4432-9995-4632F3507F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4E588-D7B0-48A2-9B83-AEA1DE0770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12-09T01:13:52Z</dcterms:modified>
  <cp:revision>93</cp:revision>
  <dc:subject/>
  <dc:title>Презентация PowerPoint</dc:title>
</cp:coreProperties>
</file>